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659-E7E9-4A75-B3B4-5F884894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229-8940-4317-886E-CD13501E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1EE4-3F3F-4C60-BE9C-9C500ED0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72EF-1DD9-4B26-8795-CECE6B06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1F78-96EA-437C-A5B3-F5877253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D9F-5634-4502-AE3A-4907BC9D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ADE-13FD-4F05-90DB-349E27BA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57E-3E5A-4B19-9BA7-35AA186F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D67F-DEFB-4BD2-A8BA-7E6BB027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154C-7E14-4D8E-80B5-9ED009A4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872-D74D-438F-8500-BCF68E36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269-E136-467A-8EDC-CF80A6DA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C031-4E29-4355-8DF3-FD8525603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United Kingdo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ameron and Grif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geography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lph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nguage in the UK is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is London, Engla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. Is 60,587,6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p 2 Riv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n- longest river(220 m. lo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mes- flows through London, Eng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o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food in the UK is fish and c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also famous for roast meat, pies, and p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ypical breakfast is cereal, bacon, eggs,    and to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port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 sport in the UK is soccer (they have won 3 world cup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also go and watch horse racing, and cric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7040" y="4330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212" y="12030"/>
                </a:moveTo>
                <a:lnTo>
                  <a:pt x="11212" y="12030"/>
                </a:lnTo>
              </a:path>
            </a:pathLst>
          </a:custGeom>
          <a:noFill/>
          <a:ln cap="rnd" w="349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onehen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rocks that are were made by an ancient civilization (3,500 to 3,000  years ol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cks weigh about 4 to 50 t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nehenge was originally made by people that worship the s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apit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2% of the people live in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itish cities started to grow after the industrial revolution  in the 1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ames run straight  through Lon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annica student encyclopedia p. 19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N.S.I.D.E Great Britain p. 15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5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5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9:32:06Z</dcterms:created>
  <dc:creator>The </dc:creator>
  <dc:description/>
  <dc:language>en-US</dc:language>
  <cp:lastModifiedBy>lslibrary</cp:lastModifiedBy>
  <dcterms:modified xsi:type="dcterms:W3CDTF">2009-02-12T19:10:17Z</dcterms:modified>
  <cp:revision>9</cp:revision>
  <dc:subject/>
  <dc:title>The United Kingdom </dc:title>
</cp:coreProperties>
</file>